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0.jpeg" ContentType="image/jpeg"/>
  <Override PartName="/ppt/media/image47.jpeg" ContentType="image/jpeg"/>
  <Override PartName="/ppt/media/image45.jpeg" ContentType="image/jpeg"/>
  <Override PartName="/ppt/media/image48.png" ContentType="image/png"/>
  <Override PartName="/ppt/media/image44.jpeg" ContentType="image/jpeg"/>
  <Override PartName="/ppt/media/image43.jpeg" ContentType="image/jpeg"/>
  <Override PartName="/ppt/media/image41.jpeg" ContentType="image/jpeg"/>
  <Override PartName="/ppt/media/image36.jpeg" ContentType="image/jpeg"/>
  <Override PartName="/ppt/media/image34.jpeg" ContentType="image/jpeg"/>
  <Override PartName="/ppt/media/image32.jpeg" ContentType="image/jpeg"/>
  <Override PartName="/ppt/media/image31.png" ContentType="image/png"/>
  <Override PartName="/ppt/media/image30.jpeg" ContentType="image/jpeg"/>
  <Override PartName="/ppt/media/image20.jpeg" ContentType="image/jpeg"/>
  <Override PartName="/ppt/media/image40.jpeg" ContentType="image/jpeg"/>
  <Override PartName="/ppt/media/image49.jpeg" ContentType="image/jpeg"/>
  <Override PartName="/ppt/media/image76.jpeg" ContentType="image/jpeg"/>
  <Override PartName="/ppt/media/image12.png" ContentType="image/png"/>
  <Override PartName="/ppt/media/image27.png" ContentType="image/png"/>
  <Override PartName="/ppt/media/image33.jpeg" ContentType="image/jpeg"/>
  <Override PartName="/ppt/media/image17.jpeg" ContentType="image/jpeg"/>
  <Override PartName="/ppt/media/image77.png" ContentType="image/png"/>
  <Override PartName="/ppt/media/image4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.jpeg" ContentType="image/jpeg"/>
  <Override PartName="/ppt/media/image64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23.jpeg" ContentType="image/jpeg"/>
  <Override PartName="/ppt/media/image82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11.png" ContentType="image/pn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5.jpeg" ContentType="image/jpeg"/>
  <Override PartName="/ppt/media/image69.png" ContentType="image/png"/>
  <Override PartName="/ppt/media/image67.jpeg" ContentType="image/jpeg"/>
  <Override PartName="/ppt/media/image15.jpeg" ContentType="image/jpeg"/>
  <Override PartName="/ppt/media/image10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2.png" ContentType="image/png"/>
  <Override PartName="/ppt/media/image14.png" ContentType="image/png"/>
  <Override PartName="/ppt/media/image72.jpeg" ContentType="image/jpeg"/>
  <Override PartName="/ppt/media/image26.jpeg" ContentType="image/jpeg"/>
  <Override PartName="/ppt/media/image28.jpeg" ContentType="image/jpeg"/>
  <Override PartName="/ppt/media/image51.jpeg" ContentType="image/jpeg"/>
  <Override PartName="/ppt/media/image19.jpeg" ContentType="image/jpeg"/>
  <Override PartName="/ppt/media/image29.jpeg" ContentType="image/jpeg"/>
  <Override PartName="/ppt/media/image5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46AD-6FE3-4A2C-875B-BDCC8CA4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6DE1-E5B5-4C27-9469-314FD63F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3EA9-0EF7-4D70-AD08-E998B2748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5143-0ED3-4FCE-B525-FEBAA2E0D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F859-BA2C-43C0-8530-968B35971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5F0D-9249-409C-A610-457061C4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62C9-2DFA-46A6-B7B6-F363DDBB2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71315-0EDA-4C3A-9076-BF55F8901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2E33D-04A4-47E4-ADF1-E8B713C1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CDF28-2FD2-466E-BB97-D82D1E9F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7B390-EE06-4858-B85B-75B8858C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F211-B1A6-4645-900F-7B8BE97D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87D7-75AB-48CB-A5C3-A91D205B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4188-6199-498F-B7B8-F1C7274B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9C336-620F-4D49-AE37-DAC97E68C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0D55A-CB41-4977-A579-87C5BCDD8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2F0C-8C22-4DB3-BF82-3B5FF5CA4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34289-A909-4292-BE66-E76A706F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5BA69-27A3-42C1-B73E-DE0D3754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507AC-0E3A-459D-95C2-9CA280BB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3606D-24A6-4176-9939-0CD7D8CC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D2F35-9214-44B2-92D3-C1EBC10A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D749-73BF-4D69-A86D-44817FDD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08AED-E50D-4D7C-BFE6-C6AA9DD5B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5A2FC-DCE2-409D-8FBD-0C93FF88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779F0-8CD4-4FBF-9F8A-DC4B9BF3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1C216-DE89-409F-A77C-543C14F55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85A3D-E6C2-4CB6-899E-8238EDB7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42E50-9F1B-4C40-8F4B-2CC7B143E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42E8E-28EE-42BE-93C2-62FA9FEC7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D73-B34E-4C81-A79B-043FB342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7DA9-10B8-4ED6-B1DF-2C91D1743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E556-D78D-4BA2-816F-DE24E43F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01D8-15B3-4D81-9DD4-F7D0ECE1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254E-44FB-4A83-BC64-87660D1F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52FA-A4CF-4BBB-BA96-A1784F43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811D-E674-41CC-AA8B-F7BF44168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A3FE-9D39-41A7-A7DE-DE365C0C469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7E70-5CC6-44CD-8CCA-C907982BA5CE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62.jpeg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slideLayout" Target="../slideLayouts/slideLayout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jpeg"/><Relationship Id="rId6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755640" y="620640"/>
            <a:ext cx="7920000" cy="333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едагогическая</a:t>
            </a:r>
            <a:endParaRPr b="1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ктика</a:t>
            </a:r>
            <a:endParaRPr b="1" lang="en-US" sz="1800" spc="1" strike="noStrike">
              <a:ln w="12600">
                <a:solidFill>
                  <a:srgbClr val="00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042920" y="4221000"/>
            <a:ext cx="7416720" cy="19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ФФК III  кур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ГПИ им. Н. К. Крупско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 spd="slow" advTm="7000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600360" cy="26319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2"/>
          <a:stretch/>
        </p:blipFill>
        <p:spPr>
          <a:xfrm>
            <a:off x="4716360" y="1484280"/>
            <a:ext cx="4032360" cy="26370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3"/>
          <a:stretch/>
        </p:blipFill>
        <p:spPr>
          <a:xfrm>
            <a:off x="3276720" y="4437000"/>
            <a:ext cx="3097080" cy="22320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539640" y="189000"/>
            <a:ext cx="813600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движные игры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6000">
    <p:pull dir="rd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430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0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5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3260520" cy="24541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3"/>
          <a:stretch/>
        </p:blipFill>
        <p:spPr>
          <a:xfrm>
            <a:off x="5214960" y="1600200"/>
            <a:ext cx="3102120" cy="233532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4"/>
          <a:stretch/>
        </p:blipFill>
        <p:spPr>
          <a:xfrm>
            <a:off x="900000" y="4221000"/>
            <a:ext cx="3260880" cy="245592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5"/>
          <a:stretch/>
        </p:blipFill>
        <p:spPr>
          <a:xfrm>
            <a:off x="5292720" y="4257720"/>
            <a:ext cx="3166920" cy="238428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24000" y="260280"/>
            <a:ext cx="8640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Лыжная подготов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 advTm="23000">
    <p:pull dir="rd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77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770" fill="hold"/>
                                        <p:tgtEl>
                                          <p:spTgt spid="4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539640" y="404640"/>
            <a:ext cx="8280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ортивные игр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826920" y="4076640"/>
            <a:ext cx="3241800" cy="244152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3"/>
          <a:stretch/>
        </p:blipFill>
        <p:spPr>
          <a:xfrm>
            <a:off x="4500720" y="2081160"/>
            <a:ext cx="4392360" cy="32958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4"/>
          <a:stretch/>
        </p:blipFill>
        <p:spPr>
          <a:xfrm>
            <a:off x="826920" y="1557360"/>
            <a:ext cx="3240360" cy="24400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pull dir="rd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Проведено по 5 (2-3-часовых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66"/>
                </a:solidFill>
                <a:latin typeface="Arial"/>
              </a:rPr>
              <a:t>занятий в спортивных секциях</a:t>
            </a:r>
            <a:r>
              <a:rPr b="1" i="1" lang="en-US" sz="3200" spc="-1" strike="noStrike">
                <a:solidFill>
                  <a:srgbClr val="66ff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Подвижные иг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                          </a:t>
            </a: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«</a:t>
            </a: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Олимпиец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Баскет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Arial"/>
              </a:rPr>
              <a:t>                              </a:t>
            </a: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Волей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6600"/>
              </a:buClr>
              <a:buFont typeface="Arial"/>
              <a:buChar char="@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800000"/>
                </a:solidFill>
                <a:uFillTx/>
                <a:latin typeface="Arial"/>
              </a:rPr>
              <a:t>Фут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684360" y="333360"/>
            <a:ext cx="784836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екционная работ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16000">
    <p:pull dir="rd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7 L 0.108 0.08257 L 0.072 0.16647 L 0.108 0.24905 L 0.036 0.24905 L 0 0.33295 L -0.036 0.24905 L -0.108 0.24905 L -0.072 0.16647 L -0.108 0.08257 L -0.036 0.08257 L 0 0 Z">
                                      <p:cBhvr>
                                        <p:cTn id="536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85549E-006 L 0.03594 0.08255 L 0.10799 0.08255 L 0.07205 0.16648 L 0.10799 0.24902 L 0.03594 0.24902 L -3.05556E-006 0.33295 L -0.03593 0.24902 L -0.10798 0.24902 L -0.07205 0.16648 L -0.10798 0.08255 L -0.03593 0.08255 L -3.05556E-006 -4.85549E-006 Z">
                                      <p:cBhvr>
                                        <p:cTn id="540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544" dur="2000" fill="hold"/>
                                        <p:tgtEl>
                                          <p:spTgt spid="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nodeType="with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546" dur="2000" fill="hold"/>
                                        <p:tgtEl>
                                          <p:spTgt spid="4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0" dur="20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1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2" dur="2000" fill="hold"/>
                                        <p:tgtEl>
                                          <p:spTgt spid="4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3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4" dur="20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5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6" dur="2000" fill="hold"/>
                                        <p:tgtEl>
                                          <p:spTgt spid="4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7" nodeType="withEffect" fill="hold" presetClass="path" presetID="4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17 0 C 0.025 0 0.034 -0.01865 0.042 -0.02131 C 0.048 -0.02131 0.059 -0.004 0.064 -0.004 C 0.071 -0.004 0.078 -0.00932 0.091 -0.00932 L 0.1 -0.21575 L 0.11 0.03329 L 0.122 0 L 0.132 -0.00932 L 0.156 -0.00133 C 0.167 -0.00533 0.176 -0.02264 0.187 -0.0293 C 0.191 -0.03063 0.2 -0.03196 0.206 -0.0293 C 0.212 -0.02664 0.217 -0.00799 0.219 -0.00666 C 0.222 -0.00133 0.229 -0.00666 0.233 -0.004 L 0.239 0 L 0.25 0 E">
                                      <p:cBhvr>
                                        <p:cTn id="558" dur="2000" fill="hold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468360" y="549360"/>
            <a:ext cx="8207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движные игр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3814560" cy="275436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4932360" y="2708280"/>
            <a:ext cx="3814920" cy="27543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pull dir="rd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path" presetID="1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1 -0.04528 L 0.125 -0.16647 L 0.158 -0.04528 L 0.249 0 L 0.158 0.04528 L 0.125 0.16647 L 0.091 0.04528 L 0 0 Z">
                                      <p:cBhvr>
                                        <p:cTn id="564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736720" cy="20174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 txBox="1"/>
          <p:nvPr/>
        </p:nvSpPr>
        <p:spPr>
          <a:xfrm>
            <a:off x="826920" y="260280"/>
            <a:ext cx="7632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«Олимпиец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5867280" y="4149720"/>
            <a:ext cx="2952720" cy="222264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1476360" y="4222800"/>
            <a:ext cx="3095640" cy="232092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4140360" y="1844640"/>
            <a:ext cx="2771640" cy="207972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pull dir="rd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586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590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8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8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4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animClr clrSpc="rgb">
                                      <p:cBhvr>
                                        <p:cTn id="605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  <p:set>
                                      <p:cBhvr>
                                        <p:cTn id="606" dur="1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0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0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0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1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615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900000" y="404640"/>
            <a:ext cx="691380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аскетбол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6033960" cy="452628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pull dir="rd"/>
  </p:transition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7 L 0.108 0.08257 L 0.072 0.16647 L 0.108 0.24905 L 0.036 0.24905 L 0 0.33295 L -0.036 0.24905 L -0.108 0.24905 L -0.072 0.16647 L -0.108 0.08257 L -0.036 0.08257 L 0 0 Z">
                                      <p:cBhvr>
                                        <p:cTn id="621" dur="2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900000" y="476280"/>
            <a:ext cx="720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Волейб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3814920" cy="276552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4932360" y="2852640"/>
            <a:ext cx="3814920" cy="2754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d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633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1116000" y="476280"/>
            <a:ext cx="763272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утбо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468360" y="3141720"/>
            <a:ext cx="3814560" cy="276552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2"/>
          <a:stretch/>
        </p:blipFill>
        <p:spPr>
          <a:xfrm>
            <a:off x="4859280" y="3141720"/>
            <a:ext cx="3814920" cy="2765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d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Проведены внеклассные спортивно-массовые мероприят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ервенство школы по баскетболу (9 классы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ервенство школы по волейболу (10-11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Первенство школы по мини-футболу (5-6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Соревнования «Папа, мама, я – спортивная семья!» (6 класс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Турнир по волейболу «Учителя, ученики, студен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Товарищеская встреча по мини-футболу «Студенты-учен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971640" y="260280"/>
            <a:ext cx="7272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Внеклассная рабо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 spd="slow" advTm="26000">
    <p:pull dir="rd"/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8" dur="10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3" dur="8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5" dur="8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7" dur="8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8" dur="8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80"/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80"/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4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9" dur="8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0" dur="80"/>
                                        <p:tgtEl>
                                          <p:spTgt spid="4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68360" y="0"/>
            <a:ext cx="828036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У «Средняя общеобразовательная школа № 10 г. Йошкар-Олы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258920" y="5734080"/>
            <a:ext cx="655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Impact"/>
              </a:rPr>
              <a:t>8.01.2007 - 11.02.2007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Impact"/>
              <a:ea typeface="Impact"/>
            </a:endParaRPr>
          </a:p>
        </p:txBody>
      </p:sp>
    </p:spTree>
  </p:cSld>
  <p:transition spd="slow" advTm="9000">
    <p:pull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19577 L 0.25 0 L 0 0 Z">
                                      <p:cBhvr>
                                        <p:cTn id="28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" dur="20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250920" y="333360"/>
            <a:ext cx="86421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Папа,мама,я - спортивная семья!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3070440" cy="230328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5435640" y="1557360"/>
            <a:ext cx="3095640" cy="232236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4"/>
          <a:stretch/>
        </p:blipFill>
        <p:spPr>
          <a:xfrm>
            <a:off x="3059280" y="4292640"/>
            <a:ext cx="3240000" cy="230508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pull dir="rd"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3 -0.169 0.15582 C -0.169 0.24638 -0.114 0.32096 -0.044 0.32096 C -0.029 0.32096 -0.014 0.31697 0 0.31031 C -0.047 0.28634 -0.08 0.2264 -0.08 0.15582 C -0.08 0.0839 -0.047 0.02397 0 0 Z">
                                      <p:cBhvr>
                                        <p:cTn id="726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2903760" cy="218592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0" y="404640"/>
            <a:ext cx="9144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Турнир к Дню защитника Отечества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5219640" y="1700280"/>
            <a:ext cx="2903760" cy="218592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1042920" y="4149720"/>
            <a:ext cx="2905200" cy="218772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5"/>
          <a:stretch/>
        </p:blipFill>
        <p:spPr>
          <a:xfrm>
            <a:off x="5219640" y="4221000"/>
            <a:ext cx="2905200" cy="21877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pull dir="rd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1 0.04528 0.011 0.08657 0.028 0.1132 C 0.028 0.11453 0.055 0.15049 0.055 0.14916 C 0.07 0.16914 0.079 0.19711 0.079 0.2264 C 0.079 0.285 0.044 0.33162 0 0.33295 C -0.044 0.33162 -0.079 0.285 -0.079 0.2264 C -0.079 0.19711 -0.07 0.16914 -0.055 0.14916 C -0.055 0.15049 -0.028 0.11453 -0.028 0.1132 C -0.011 0.08657 -0.001 0.04528 0 0 Z">
                                      <p:cBhvr>
                                        <p:cTn id="752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5" dur="1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66" dur="1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67" dur="1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250920" y="189000"/>
            <a:ext cx="8713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ини - футбол "Студенты - ученики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2903760" cy="22590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5364000" y="1773360"/>
            <a:ext cx="2903760" cy="218592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4"/>
          <a:stretch/>
        </p:blipFill>
        <p:spPr>
          <a:xfrm>
            <a:off x="1042920" y="4292640"/>
            <a:ext cx="2905200" cy="218736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5"/>
          <a:stretch/>
        </p:blipFill>
        <p:spPr>
          <a:xfrm>
            <a:off x="5364000" y="4292640"/>
            <a:ext cx="2905200" cy="21873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pull dir="rd"/>
  </p:transition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5 -0.00185 C 0.07448 -0.00185 0.13055 0.07283 0.13055 0.16462 C 0.13055 0.25641 0.07448 0.33109 0.00555 0.33109 C -0.06337 0.33109 -0.11945 0.25641 -0.11945 0.16462 C -0.11945 0.07283 -0.06337 -0.00185 0.00555 -0.00185 Z">
                                      <p:cBhvr>
                                        <p:cTn id="793" dur="2000" fill="hold"/>
                                        <p:tgtEl>
                                          <p:spTgt spid="4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path" presetID="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53 0.00532 L -0.04253 -0.19052 L 0.20747 0.00532 L -0.04253 0.00532 Z">
                                      <p:cBhvr>
                                        <p:cTn id="797" dur="200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2498 C 0.00973 0.00093 0.03073 -0.03352 0.05573 -0.03352 C 0.09271 -0.03352 0.12275 0.00232 0.12275 0.04763 C 0.12275 0.0622 0.1198 0.07561 0.11372 0.08763 C 0.11476 0.08763 -0.00225 0.26729 -0.00225 0.26867 C -0.00225 0.26729 -0.11927 0.08763 -0.11822 0.08763 C -0.1243 0.07561 -0.12725 0.0622 -0.12725 0.04763 C -0.12725 0.00232 -0.09722 -0.03352 -0.0592 -0.03352 C -0.03524 -0.03352 -0.01423 0.00093 -0.00225 0.02498 Z">
                                      <p:cBhvr>
                                        <p:cTn id="801" dur="2000" fill="hold"/>
                                        <p:tgtEl>
                                          <p:spTgt spid="4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7 L 0.108 0.08257 L 0.072 0.16647 L 0.108 0.24905 L 0.036 0.24905 L 0 0.33295 L -0.036 0.24905 L -0.108 0.24905 L -0.072 0.16647 L -0.108 0.08257 L -0.036 0.08257 L 0 0 Z">
                                      <p:cBhvr>
                                        <p:cTn id="805" dur="2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468360" y="333360"/>
            <a:ext cx="8064360" cy="9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В школе мы не тольк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324000" y="4149720"/>
            <a:ext cx="806436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роводили уроки..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4894200" y="5300640"/>
            <a:ext cx="424980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но и.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ransition spd="slow" advTm="14000">
    <p:pull dir="rd"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9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179280" y="260280"/>
            <a:ext cx="8964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ы   на   лыжах   даже в   спортзале..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2"/>
          <a:stretch/>
        </p:blipFill>
        <p:spPr>
          <a:xfrm>
            <a:off x="1258920" y="1557360"/>
            <a:ext cx="3097080" cy="233208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4788000" y="1628640"/>
            <a:ext cx="3273480" cy="47815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4"/>
          <a:stretch/>
        </p:blipFill>
        <p:spPr>
          <a:xfrm>
            <a:off x="1258920" y="4076640"/>
            <a:ext cx="3168720" cy="2386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 rot="5400000">
            <a:off x="-90000" y="2256840"/>
            <a:ext cx="1477800" cy="796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Оль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0" name=""/>
          <p:cNvSpPr txBox="1"/>
          <p:nvPr/>
        </p:nvSpPr>
        <p:spPr>
          <a:xfrm rot="5400000">
            <a:off x="-178560" y="4939560"/>
            <a:ext cx="1728720" cy="723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Миш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481" name=""/>
          <p:cNvSpPr txBox="1"/>
          <p:nvPr/>
        </p:nvSpPr>
        <p:spPr>
          <a:xfrm rot="5400000">
            <a:off x="6948000" y="3500280"/>
            <a:ext cx="3240000" cy="64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аша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p:transition spd="slow" advTm="17000">
    <p:pull dir="rd"/>
  </p:transition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397 0.033 -0.0586 0.058 -0.0586 C 0.095 -0.0586 0.125 -0.02264 0.125 0.02264 C 0.125 0.03729 0.122 0.05061 0.116 0.06259 C 0.117 0.06259 0 0.24239 0 0.24372 C 0 0.24239 -0.117 0.06259 -0.116 0.06259 C -0.122 0.05061 -0.125 0.03729 -0.125 0.02264 C -0.125 -0.02264 -0.095 -0.0586 -0.057 -0.0586 C -0.033 -0.0586 -0.012 -0.02397 0 0 Z">
                                      <p:cBhvr>
                                        <p:cTn id="838" dur="20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9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 txBox="1"/>
          <p:nvPr/>
        </p:nvSpPr>
        <p:spPr>
          <a:xfrm>
            <a:off x="468360" y="-243000"/>
            <a:ext cx="806436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тервью для школьной газет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3"/>
          <a:stretch/>
        </p:blipFill>
        <p:spPr>
          <a:xfrm>
            <a:off x="468360" y="1484280"/>
            <a:ext cx="3168720" cy="238752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4"/>
          <a:stretch/>
        </p:blipFill>
        <p:spPr>
          <a:xfrm>
            <a:off x="5003640" y="1341360"/>
            <a:ext cx="3311640" cy="24922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5"/>
          <a:stretch/>
        </p:blipFill>
        <p:spPr>
          <a:xfrm>
            <a:off x="395280" y="4076640"/>
            <a:ext cx="3313080" cy="249552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6"/>
          <a:stretch/>
        </p:blipFill>
        <p:spPr>
          <a:xfrm>
            <a:off x="5003640" y="3933720"/>
            <a:ext cx="3456000" cy="2600280"/>
          </a:xfrm>
          <a:prstGeom prst="rect">
            <a:avLst/>
          </a:prstGeom>
          <a:ln w="0">
            <a:noFill/>
          </a:ln>
        </p:spPr>
      </p:pic>
    </p:spTree>
  </p:cSld>
  <p:transition spd="slow" advTm="23000">
    <p:pull dir="rd"/>
  </p:transition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6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50000">
              <a:srgbClr val="0047ff"/>
            </a:gs>
            <a:gs pos="100000">
              <a:srgbClr val="000082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539640" y="260280"/>
            <a:ext cx="8280360" cy="16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Всегда болеем за своих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900000" y="4292640"/>
            <a:ext cx="2905200" cy="21873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pull dir="rd"/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8" dur="4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4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4932360" y="4437000"/>
            <a:ext cx="2881440" cy="217008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971640" y="4437000"/>
            <a:ext cx="2952720" cy="221616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4859280" y="1773360"/>
            <a:ext cx="2952720" cy="22129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971640" y="1773360"/>
            <a:ext cx="2879640" cy="21589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 txBox="1"/>
          <p:nvPr/>
        </p:nvSpPr>
        <p:spPr>
          <a:xfrm>
            <a:off x="395280" y="189000"/>
            <a:ext cx="8424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000099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туденты тоже люди...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000099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26000">
    <p:pull dir="rd"/>
  </p:transition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57 L 0.108 0.08257 L 0.072 0.16647 L 0.108 0.24905 L 0.036 0.24905 L 0 0.33295 L -0.036 0.24905 L -0.108 0.24905 L -0.072 0.16647 L -0.108 0.08257 L -0.036 0.08257 L 0 0 Z">
                                      <p:cBhvr>
                                        <p:cTn id="933" dur="2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1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2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395280" y="2492280"/>
            <a:ext cx="4680000" cy="351180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3"/>
          <a:stretch/>
        </p:blipFill>
        <p:spPr>
          <a:xfrm>
            <a:off x="5580000" y="2133720"/>
            <a:ext cx="3203640" cy="427032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468360" y="404640"/>
            <a:ext cx="8207280" cy="13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лассный час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2000">
    <p:pull dir="rd"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path" presetID="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 -0.00666 -0.029 -0.01199 -0.044 -0.01199 C -0.114 -0.01199 -0.169 0.06393 -0.169 0.15582 C -0.169 0.24638 -0.114 0.32096 -0.044 0.32096 C -0.029 0.32096 -0.014 0.31697 0 0.31031 C -0.047 0.28634 -0.08 0.2264 -0.08 0.15582 C -0.08 0.0839 -0.047 0.02397 0 0 Z">
                                      <p:cBhvr>
                                        <p:cTn id="977" dur="2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981" dur="2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179280" y="189000"/>
            <a:ext cx="864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 бумаг больше чем работы..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539640" y="4005360"/>
            <a:ext cx="3394080" cy="26589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3"/>
          <a:stretch/>
        </p:blipFill>
        <p:spPr>
          <a:xfrm>
            <a:off x="539640" y="1413000"/>
            <a:ext cx="3286080" cy="247320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4"/>
          <a:stretch/>
        </p:blipFill>
        <p:spPr>
          <a:xfrm>
            <a:off x="5076720" y="1341360"/>
            <a:ext cx="3316320" cy="25164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5"/>
          <a:stretch/>
        </p:blipFill>
        <p:spPr>
          <a:xfrm>
            <a:off x="5651640" y="4005360"/>
            <a:ext cx="2001600" cy="265896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pull dir="rd"/>
  </p:transition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611280" y="1268280"/>
            <a:ext cx="3448080" cy="592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чаева Ольга Андре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859280" y="1268280"/>
            <a:ext cx="3389400" cy="524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торова Екатерина Никола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79280" y="3860640"/>
            <a:ext cx="4033800" cy="379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зарова Оксана Сергеевн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859280" y="3860640"/>
            <a:ext cx="3673440" cy="668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ухарев Павел Александро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2755800" cy="197352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971640" y="422100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4"/>
          <a:stretch/>
        </p:blipFill>
        <p:spPr>
          <a:xfrm>
            <a:off x="5292720" y="1557360"/>
            <a:ext cx="2735280" cy="210492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5"/>
          <a:stretch/>
        </p:blipFill>
        <p:spPr>
          <a:xfrm>
            <a:off x="5148360" y="4221000"/>
            <a:ext cx="2916000" cy="2187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684360" y="189000"/>
            <a:ext cx="777528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Группа студентов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5000">
    <p:pull dir="r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77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" dur="770" fill="hold"/>
                                        <p:tgtEl>
                                          <p:spTgt spid="4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77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770" fill="hold"/>
                                        <p:tgtEl>
                                          <p:spTgt spid="4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395280" y="404640"/>
            <a:ext cx="8280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3399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Группа "захвата" 10 школы</a:t>
            </a:r>
            <a:endParaRPr b="1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3399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1000">
    <p:pull dir="rd"/>
  </p:transition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95280" y="404640"/>
            <a:ext cx="7921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т мы какие!!!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6" name=""/>
          <p:cNvSpPr txBox="1"/>
          <p:nvPr/>
        </p:nvSpPr>
        <p:spPr>
          <a:xfrm rot="5400000">
            <a:off x="5795280" y="3573360"/>
            <a:ext cx="489600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3300"/>
                  </a:solidFill>
                  <a:miter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Times New Roman"/>
              </a:rPr>
              <a:t>Очаровашки</a:t>
            </a:r>
            <a:endParaRPr b="1" lang="en-US" sz="1800" spc="1" strike="noStrike">
              <a:ln w="12600">
                <a:solidFill>
                  <a:srgbClr val="003300"/>
                </a:solidFill>
                <a:miter/>
              </a:ln>
              <a:solidFill>
                <a:srgbClr val="00ffff"/>
              </a:solid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 advTm="8000">
    <p:pull dir="rd"/>
  </p:transition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24000" y="404640"/>
            <a:ext cx="3600360" cy="57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уденко Пётр Юрь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716360" y="333360"/>
            <a:ext cx="3990960" cy="619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ыбаков Александр Серге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95280" y="3357720"/>
            <a:ext cx="4251240" cy="401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лодцов Михаил Василь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788000" y="3500280"/>
            <a:ext cx="3768480" cy="265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поров Артём Николаевич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812880" y="907920"/>
            <a:ext cx="2914560" cy="218628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5205240" y="907920"/>
            <a:ext cx="2914920" cy="218628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2521080" cy="280836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5"/>
          <a:stretch/>
        </p:blipFill>
        <p:spPr>
          <a:xfrm>
            <a:off x="5219640" y="414972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pull dir="r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99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99"/>
                </a:solidFill>
                <a:latin typeface="Arial"/>
              </a:rPr>
              <a:t>Руководитель практик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Грищук Елена Константи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66"/>
                </a:solidFill>
                <a:latin typeface="Arial"/>
              </a:rPr>
              <a:t>Методис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Шаблатова Алена Степ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илюр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рина Пет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ва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талий Никола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ум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услан Михайл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826920" y="333360"/>
            <a:ext cx="731232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дагоги по физкультурной работ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979640" y="2492280"/>
            <a:ext cx="6005520" cy="13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чителя физкультуры: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6"/>
          <a:stretch/>
        </p:blipFill>
        <p:spPr>
          <a:xfrm>
            <a:off x="4284720" y="3860640"/>
            <a:ext cx="3456000" cy="27082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pull dir="r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00" fill="hold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400" fill="hold"/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"/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400" fill="hold"/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Классные руководители</a:t>
            </a: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Прибылова Людмила Владими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Яранцева Елен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Скрипунова Елен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Ахматова Нин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Косарева Нина Михайл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Шалаев Андрей Владимир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Вырупаева Марина Дмитри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ff"/>
                </a:solidFill>
                <a:latin typeface="Arial"/>
              </a:rPr>
              <a:t>Лихачева Людмила Арк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68360" y="404640"/>
            <a:ext cx="83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дагоги по классному руководству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 advTm="19000">
    <p:pull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0" fill="hold"/>
                                        <p:tgtEl>
                                          <p:spTgt spid="4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0" fill="hold"/>
                                        <p:tgtEl>
                                          <p:spTgt spid="4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4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0" fill="hold"/>
                                        <p:tgtEl>
                                          <p:spTgt spid="4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25092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cc"/>
                </a:solidFill>
                <a:latin typeface="Arial"/>
              </a:rPr>
              <a:t>Директор школы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ожеуров Владимир Ивано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местители директора по УВР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Стрельникова Валентина Кузьминич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асибуллина Нурия Раушан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аместитель директора по ВР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убова Светлана Александ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таршие вожатые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верева Венера Анса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Киреева Елена Михай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оциальный педагог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Рудковская Юлия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сихолог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Заболотских Наталья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Фельдшер школы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Жирова Ни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Учащихся  в школе –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7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лассов – 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лассов с ЗПР</a:t>
            </a: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 – 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 rot="5400000">
            <a:off x="5409000" y="3096360"/>
            <a:ext cx="63388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Общие сведения о школе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13000">
    <p:pull dir="rd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4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4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4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4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1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1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41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179280" y="2349360"/>
            <a:ext cx="829152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Тест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Социомет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Классные ча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Проверка днев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Общественно-полезный тру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Подготовка к плановым мероприят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Посещение кинотеатра и Ледового Двор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Психолого-педагогические характеристики учащ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Вечера отды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826920" y="260280"/>
            <a:ext cx="770580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оспитательная рабо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с классо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 advTm="25000">
    <p:pull dir="r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4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4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4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4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4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4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4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4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9966ff"/>
                </a:solidFill>
                <a:uFillTx/>
                <a:latin typeface="Arial"/>
              </a:rPr>
              <a:t>Проведено по 32 урока физической культур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Подвижных игр в 1-4 клас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Спортивных игр в 5-11 клас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Лыжной подготовки в 1-4 класс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826920" y="260280"/>
            <a:ext cx="70581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Учебная работа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 spd="slow" advTm="28000">
    <p:pull dir="r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4:27:33Z</dcterms:created>
  <dc:creator>Ирина</dc:creator>
  <dc:description/>
  <dc:language>en-US</dc:language>
  <cp:lastModifiedBy>Ирина</cp:lastModifiedBy>
  <dcterms:modified xsi:type="dcterms:W3CDTF">2007-02-19T18:48:07Z</dcterms:modified>
  <cp:revision>11</cp:revision>
  <dc:subject/>
  <dc:title>Педагогическая практика</dc:title>
</cp:coreProperties>
</file>